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7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BA6-D64C-420C-A95C-1C90C687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A88-0152-4DE7-AD7E-C8AD56B0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3BE-2D21-478F-B160-C6771F89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FB6-04AA-49A8-AA2E-C884E55F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5F7C-B8B1-4AB4-846B-3420737D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C1C5-C38F-4EA3-B992-20FADE08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42F9-FC6D-4C00-8FE2-EA658688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05B8-178B-4CD8-9C91-2D87166B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B6A0-F458-488A-8328-30BACE1E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4766-64CE-46D6-AE2B-BFFC48FB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89A2-3AAE-488D-AE9A-2BF14C2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9AB-E8FF-49CD-8650-6C568713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9C32-6E20-4918-ACAB-5C9008A5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9323-44D6-4423-A9C0-159528D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9F97-2E30-410B-9A6F-8D8A3078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3F7F-0DC4-4D20-A07B-F5FC59FD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A214-A678-4C76-9018-B0483BBA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9F5-CD33-4C33-BEEA-88331054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153-0100-4AFA-B403-9A23D208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1F1-BD19-4DFE-8017-17E11827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F63-F88B-437C-B6B7-415D2F76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89B-4D27-4992-A255-F56BEA6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946-F5AF-431B-9FB0-16AD69FC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DDA-0842-4BB1-90BA-EBD14B24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Rectangle 3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5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14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Rectangle 2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4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558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155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155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15588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A1A2-95B9-44C8-8A29-14DF243A21E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51CAE22-943C-4CA5-8842-4468FADAAE9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631C-FEF7-4ED2-AF46-975131396B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Text Box 16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aettenschweiler"/>
              </a:rPr>
              <a:t>CHAPTER  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558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155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155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15588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8693-0CA5-4B09-A664-4E58FD319BD8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CCC316DE-74E7-43A3-BA0B-39BE8DF3951C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2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F8B2-184A-4587-867E-2217D1483C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1CD-66E2-40C5-A2A5-49BC36AFF81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478D744-5FF3-4C3D-939C-91A100062AA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32D1-0196-40BA-8BC4-80EAD15B40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r>
              <a:rPr b="1" lang="en-US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F115-EF69-40C6-9160-F512BB6EF78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B23066F-E1B4-4B8B-8387-A2BF00C8694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F60B-B41F-4EA7-8DD8-E83F3977E5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二元运算的性质（续）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50920" y="903240"/>
            <a:ext cx="828180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6~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和 ∗ 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两个不同的二元运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∗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∗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∗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∗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运算对 ∗ 运算满足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分配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和 ∗ 都可交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并且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∗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∗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和 ∗ 运算满足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吸收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1160" y="3500280"/>
          <a:ext cx="7981920" cy="3025800"/>
        </p:xfrm>
        <a:graphic>
          <a:graphicData uri="http://schemas.openxmlformats.org/drawingml/2006/table">
            <a:tbl>
              <a:tblPr/>
              <a:tblGrid>
                <a:gridCol w="1152720"/>
                <a:gridCol w="2852640"/>
                <a:gridCol w="2574720"/>
                <a:gridCol w="1401840"/>
              </a:tblGrid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集合 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配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吸收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3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, Q, 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加法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乘法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9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分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不分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矩阵加法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乘法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9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分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不分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与交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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9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可分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可分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交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与对称差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9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可分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不分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0" name="Rectangle 46"/>
          <p:cNvSpPr/>
          <p:nvPr/>
        </p:nvSpPr>
        <p:spPr>
          <a:xfrm>
            <a:off x="252360" y="3716280"/>
            <a:ext cx="719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实例分析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08E3-37D1-4582-B653-4D5A34452D7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66E2C05-45FC-422E-B492-71A5E9003BFC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B6B4-9CAF-4BF6-B426-96FAEAA01F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482436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二元运算的特异元素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24000" y="1052640"/>
            <a:ext cx="85690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  <a:ea typeface="黑体"/>
              </a:rPr>
              <a:t>单位元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8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二元运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存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或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使得对任意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有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关于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运算的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左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或右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单位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关于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运算既是左单位元又是右单位元，则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关于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运算的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单位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单位元也叫做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幺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50920" y="3573360"/>
            <a:ext cx="856908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  <a:ea typeface="黑体"/>
              </a:rPr>
              <a:t>零元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9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二元运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存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或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使得对任意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有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关于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运算的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左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或右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零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运算既是左零元又是右零元，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关于运算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的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零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8A90-3F5C-485F-8B25-1B28509BA2C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6F61AF8-74CC-44CF-801D-BC6964F9809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121B-8FC5-41D2-948A-B155151AD0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35080" y="115560"/>
            <a:ext cx="624528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二元运算的特异元素（续）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24000" y="1125360"/>
            <a:ext cx="856908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  <a:ea typeface="黑体"/>
              </a:rPr>
              <a:t>可逆元素及其逆元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ahoma"/>
              </a:rPr>
              <a:t>9.10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令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关于运算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单位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于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如果存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或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或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左逆元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(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或右逆元</a:t>
            </a:r>
            <a:r>
              <a:rPr b="1" lang="zh-CN" sz="2200" spc="-1" strike="noStrike">
                <a:solidFill>
                  <a:srgbClr val="ffcf01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关于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运算，若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既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左逆元又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右逆元，则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逆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逆元存在，就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可逆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1A80-69B4-433A-8F22-51A7CBC4027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7B779B0-4BB8-4931-ADCB-6B396CD59FB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58F8-85FD-416A-AEBF-D1DBAF3C5A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03120" y="0"/>
            <a:ext cx="308124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实例分析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0920" y="1413000"/>
          <a:ext cx="8642160" cy="3711600"/>
        </p:xfrm>
        <a:graphic>
          <a:graphicData uri="http://schemas.openxmlformats.org/drawingml/2006/table">
            <a:tbl>
              <a:tblPr/>
              <a:tblGrid>
                <a:gridCol w="1008000"/>
                <a:gridCol w="1584360"/>
                <a:gridCol w="1873080"/>
                <a:gridCol w="1440000"/>
                <a:gridCol w="2736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ˎ̥"/>
                        </a:rPr>
                        <a:t>集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ˎ̥"/>
                        </a:rPr>
                        <a:t>运算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ˎ̥"/>
                        </a:rPr>
                        <a:t>单位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ˎ̥"/>
                        </a:rPr>
                        <a:t>零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ˎ̥"/>
                        </a:rPr>
                        <a:t>逆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9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5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加法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  <a:tr h="83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乘法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  <a:tr h="389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5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矩阵加法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矩阵乘法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  <a:tr h="375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5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交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称差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843280" y="1773360"/>
          <a:ext cx="6049800" cy="3967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736720"/>
              </a:tblGrid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逆元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843280" y="2133720"/>
          <a:ext cx="6049800" cy="86364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73672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逆元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30000">
                          <a:solidFill>
                            <a:srgbClr val="ff330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属于给定集合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843280" y="2997360"/>
          <a:ext cx="6049800" cy="39024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736720"/>
              </a:tblGrid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阶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矩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逆元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843280" y="3371760"/>
          <a:ext cx="6049800" cy="6397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736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阶单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矩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阶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矩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逆元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（</a:t>
                      </a: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是可逆矩阵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843280" y="4005360"/>
          <a:ext cx="6049800" cy="37620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736720"/>
              </a:tblGrid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逆元为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843280" y="4379760"/>
          <a:ext cx="6049800" cy="36540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736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逆元为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843280" y="4738680"/>
          <a:ext cx="6049800" cy="36504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736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逆元为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c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3B06-044A-4F98-AF98-2DCD494303C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588E441-B951-4BC4-A8AF-65B840B1F2F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CF61-347B-4A1A-B600-A1179467BE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266400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惟一性定理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24000" y="1052640"/>
            <a:ext cx="8569080" cy="55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1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二元运算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别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关于运算的左和右单位元，则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关于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运算的惟一的单位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证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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以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将这个单位元记作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假设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’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的单位元，则有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’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’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惟一性得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类似地可以证明关于零元的惟一性定理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2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二元运算，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别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关于运算的左和右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零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元，则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关于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运算的惟一的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零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3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当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|S|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2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，单位元与零元是不同的；     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   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当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|S| = 1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时，这个元素既是单位元也是零元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A4A7-8D05-4E2C-A1B2-0BCA752C728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716B2C8-2835-4959-91F2-4313BB89370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2078-6EE4-433B-BF24-CA4D19C527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4200" y="115920"/>
            <a:ext cx="45370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惟一性定理（续）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250920" y="981000"/>
            <a:ext cx="864216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4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可结合的二元运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该运算的单位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于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存在左逆元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右逆元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有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惟一的逆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证  由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令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逆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假若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逆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'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以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惟一的逆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说明：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对于可结合的二元运算，可逆元素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只有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惟一的逆元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，记作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 baseline="30000">
                <a:solidFill>
                  <a:srgbClr val="1c1c1c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8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8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8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8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8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8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2EC3-9B3A-4F8F-BD8A-2A5DFBC91B8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98A28F9-3AE4-47B4-93C3-2A6687104A8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ECF5-DB84-414F-BC4D-3BB0FC83C5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302436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消去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1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∘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二元运算，如果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∘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∘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且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不是零元，则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∘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∘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不是零元，则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那么称 ∘ 运算满足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消去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实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1)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, Q, 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关于普通加法和乘法满足消去律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2)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 M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关于矩阵加法满足消去律，但是关于乘法不满足消去律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3)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关于模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加法满足消去律，当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素数时关于模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乘法满足消去律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当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合数时关于模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乘法不满足消去律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8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8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" dur="8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6E11-E516-4D24-8F9A-EB107ADDEE6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658F404-3E68-4F80-8290-19BE535DF01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84A-8F9A-4756-B6B0-472320CA0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26654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例题分析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20640" y="2637000"/>
            <a:ext cx="81280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1)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运算可交换，可结合，不满足幂等律，满足消去律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Q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y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即有</a:t>
            </a:r>
            <a:r>
              <a:rPr b="1" lang="zh-CN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运算可交换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Q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i="1" lang="en-US" sz="2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+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 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             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y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z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yz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              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 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             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y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z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yz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故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i="1" lang="en-US" sz="2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，即有</a:t>
            </a:r>
            <a:r>
              <a:rPr b="1" lang="zh-CN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运算可结合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549360" y="1052640"/>
            <a:ext cx="79102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9.6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设 </a:t>
            </a:r>
            <a:r>
              <a:rPr b="1" lang="zh-CN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运算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Q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二元运算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               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Q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1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指出</a:t>
            </a:r>
            <a:r>
              <a:rPr b="1" lang="zh-CN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运算的性质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求 </a:t>
            </a:r>
            <a:r>
              <a:rPr b="1" lang="zh-CN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运算的单位元、零元和所有可逆元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8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1" dur="8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3" dur="8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8" dur="8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8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8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9" dur="8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0" dur="8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8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6" dur="8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7" dur="8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8" dur="8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8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21F6-45A5-4B7F-A1A8-811EAE528B6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3725D2F-4373-4E6B-B703-8CCE209BB13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B04C-DA88-4222-A2E9-E0BF796929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923760" y="5013360"/>
            <a:ext cx="7104240" cy="13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给定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，设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逆元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则有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0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成立，即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1c1c1c"/>
                </a:solidFill>
                <a:latin typeface="Times New Roman"/>
              </a:rPr>
              <a:t>            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0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      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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1)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因此当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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1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时，                   是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逆元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3929040" y="5373720"/>
          <a:ext cx="8715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5373720"/>
                    <a:ext cx="8715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5"/>
          <p:cNvGraphicFramePr/>
          <p:nvPr/>
        </p:nvGraphicFramePr>
        <p:xfrm>
          <a:off x="3008160" y="5805360"/>
          <a:ext cx="1078200" cy="7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8160" y="5805360"/>
                    <a:ext cx="1078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7280" y="112320"/>
            <a:ext cx="36720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例题分析（续）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779400" y="3141720"/>
            <a:ext cx="7164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设∘运算的单位元和零元分别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e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和 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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，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ahoma"/>
              </a:rPr>
              <a:t>   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有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∘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成立，即</a:t>
            </a:r>
            <a:r>
              <a:rPr b="1" i="1" lang="zh-CN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e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0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由于 ∘ 运算可交换，所以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0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是幺元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228680" y="4292640"/>
            <a:ext cx="4842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有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∘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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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成立，即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  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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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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0 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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1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779400" y="911160"/>
            <a:ext cx="71643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∘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运算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不满足幂等律：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因为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Q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，但</a:t>
            </a:r>
            <a:r>
              <a:rPr b="1" i="1" lang="zh-CN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       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2 ∘ 2 = 2+2-2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2 =0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≠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2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852480" y="1700280"/>
            <a:ext cx="69832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运算满足消去律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Q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≠1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）有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i="1" lang="en-US" sz="2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y=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z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 =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-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=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故</a:t>
            </a:r>
            <a:r>
              <a:rPr b="1" lang="zh-CN" sz="2200" spc="-1" strike="noStrike">
                <a:solidFill>
                  <a:srgbClr val="1c1c1c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运算满足左消去律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4764-D9A6-4629-A68D-E9E05215708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586E9280-410C-455B-9361-C347C37190D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D6FF-67E5-4718-A4CE-38F91D0700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388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例题分析（续）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250920" y="105552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9.7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(1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说明那些运算是交换的、可结合的、幂等的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求出运算的单位元、零元、所有可逆元素的逆元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195560" y="1947960"/>
          <a:ext cx="7380000" cy="2184480"/>
        </p:xfrm>
        <a:graphic>
          <a:graphicData uri="http://schemas.openxmlformats.org/drawingml/2006/table">
            <a:tbl>
              <a:tblPr/>
              <a:tblGrid>
                <a:gridCol w="537840"/>
                <a:gridCol w="1343160"/>
                <a:gridCol w="819000"/>
                <a:gridCol w="540000"/>
                <a:gridCol w="1461960"/>
                <a:gridCol w="777960"/>
                <a:gridCol w="500040"/>
                <a:gridCol w="1400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∘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</a:tr>
            </a:tbl>
          </a:graphicData>
        </a:graphic>
      </p:graphicFrame>
      <p:sp>
        <p:nvSpPr>
          <p:cNvPr id="284" name="Text Box 41"/>
          <p:cNvSpPr/>
          <p:nvPr/>
        </p:nvSpPr>
        <p:spPr>
          <a:xfrm>
            <a:off x="2864160" y="436572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解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1)  </a:t>
            </a:r>
            <a:r>
              <a:rPr b="0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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满足交换、结合律；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满足结合、幂等律；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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满足交换、结合律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2"/>
          <p:cNvSpPr/>
          <p:nvPr/>
        </p:nvSpPr>
        <p:spPr>
          <a:xfrm>
            <a:off x="1297800" y="5084640"/>
            <a:ext cx="551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2) </a:t>
            </a:r>
            <a:r>
              <a:rPr b="0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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单位元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没零元，</a:t>
            </a:r>
            <a:r>
              <a:rPr b="1" i="1" lang="zh-CN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 baseline="30000">
                <a:solidFill>
                  <a:srgbClr val="1c1c1c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 baseline="30000">
                <a:solidFill>
                  <a:srgbClr val="1c1c1c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en-US" sz="2200" spc="-1" strike="noStrike" baseline="30000">
                <a:solidFill>
                  <a:srgbClr val="1c1c1c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单位元和零元都不存在，没有可逆元素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单位元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，零元为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 baseline="30000">
                <a:solidFill>
                  <a:srgbClr val="1c1c1c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不可逆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0090-380A-48BD-92C9-E7FAC21A103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2A1C29B-5400-4D7D-BD42-3AB95269ED2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29A-AE1F-4119-8983-AA94487DA9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95640" y="765000"/>
            <a:ext cx="446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Black"/>
              </a:rPr>
              <a:t>第九章  代数系统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700360" y="4941720"/>
            <a:ext cx="28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§9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元运算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2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代数系统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22200" y="149076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章在集合、关系和函数等概念基础上，研究更为复杂的对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代数系统，研究代数系统的性质和特殊的元素，代数系统与代数系统之间的关系。如代数系统的同态、满同态和同构，这些概念较为复杂也较为抽象，是本课程中的难点。它们将集合、集合上的运算以及集合间的函数关系结合在一起进行研究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前面四章内容是本章的基础，熟练地掌握集合、关系、函数等概念和性质是理解本章内容的关键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要内容如下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A340-2E11-486F-90DE-437D546B9FE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82F85A6-42FD-4D90-A194-BC11001E1EE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839-603D-46CC-A5B9-8DF0E9F406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6000" y="39600"/>
            <a:ext cx="3672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例题分析（续）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24000" y="1308240"/>
            <a:ext cx="79930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设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{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}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构造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二元运算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*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使得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且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运算是幂等的、可交换的，给出关于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运算的一个运算表，说明它是否可结合，为什么？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592200" y="324000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95280" y="2421000"/>
          <a:ext cx="2232000" cy="1909800"/>
        </p:xfrm>
        <a:graphic>
          <a:graphicData uri="http://schemas.openxmlformats.org/drawingml/2006/table">
            <a:tbl>
              <a:tblPr/>
              <a:tblGrid>
                <a:gridCol w="804960"/>
                <a:gridCol w="14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*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    b    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    c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    c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Text Box 16"/>
          <p:cNvSpPr/>
          <p:nvPr/>
        </p:nvSpPr>
        <p:spPr>
          <a:xfrm>
            <a:off x="1333800" y="3213000"/>
            <a:ext cx="30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2125440" y="3284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360440" y="3649680"/>
            <a:ext cx="29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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2124000" y="2924280"/>
            <a:ext cx="36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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4169520" y="2492280"/>
            <a:ext cx="283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根据幂等律和已知条件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得到运算表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4317120" y="342900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Arial"/>
              </a:rPr>
              <a:t>根据交换律得到新的运算表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708360" y="414972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方框 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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 可以填入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, b, c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中任一选定的符号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完成运算表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842400" y="5084640"/>
            <a:ext cx="620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不结合，因为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*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  a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029-75A0-41DA-9F75-FD9A8C7BBFB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0DB3823-955F-4602-9672-7517FAC80F1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DAC3-2C34-4FD6-8FC2-03B481FB93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2240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由运算表判别算律的一般方法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交换律：运算表关于主对角线对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幂等律：主对角线元素排列与表头顺序一致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消去律：所在的行与列中没有重复元素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单位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在的行与列的元素排列都与表头一致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零元：元素的行与列都由该元素自身构成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可逆元：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在的行中某列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比如第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元素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且第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列的元素也是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那么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第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个元素互逆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结合律：除了单位元、零元之外，要对所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个元素的组合验证表示结合律的等式是否成立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29A6-2958-4084-AED8-F1ACF7B1663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52CD986-16C1-43E1-A5DA-34BE79C980D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ACA9-AE1E-45A9-BFC4-9F037FBED3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000" y="1988640"/>
            <a:ext cx="460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数系统定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类型代数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代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46609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9.2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代数系统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2A24-BAC1-4F40-80C3-E22A43ECE01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65B833E-7640-47E0-A960-846CEF95E46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904A-5CC6-44CE-8B1F-0E9D30D171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代数系统定义与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68360" y="1052640"/>
            <a:ext cx="82072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1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非空集合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个一元或二元运算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… ,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组成的系统称为一个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代数系统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简称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代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记做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. 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3213000"/>
            <a:ext cx="85168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实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+&gt;, 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+,·&gt;, 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+,·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代数系统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别表示普通加法和乘法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+,·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代数系统，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分别表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阶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≥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实矩阵的加法和乘法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 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代数系统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0, 1, … 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1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分别表示模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加法和乘法，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mod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mod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4) 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∪,∩,~&gt;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是代数系统，    ∪和∩为并和交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绝对补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4000" y="1916280"/>
            <a:ext cx="84247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为代数系统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载体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运算叫做代数系统的成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的代数系统定义指定了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特殊元素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称为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代数常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例如二元运算的单位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时也将代数常数作为系统的成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8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9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0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5" dur="8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6" dur="8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8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0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1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5" dur="8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6" dur="8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7" dur="8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2" dur="8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3" dur="8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4" dur="8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38C2-B117-4EA5-8F0F-59D377EBFA5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79E4BF2-E921-47BE-AE30-80FB8B22CD58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81C2-6A93-4CBF-A324-2CC0B9C4BF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同类型代数系统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324000" y="981000"/>
            <a:ext cx="835164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13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两个代数系统中运算的个数相同，对应运算的元数相同，且代数常数的个数也相同，则称这两个代数系统具有相同的构成成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称它们是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同类型的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代数系统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1c1c1c"/>
                </a:solidFill>
                <a:latin typeface="Times New Roman"/>
              </a:rPr>
              <a:t>1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&lt;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+, ·, 0, 1&gt;,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       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1c1c1c"/>
                </a:solidFill>
                <a:latin typeface="Times New Roman"/>
              </a:rPr>
              <a:t>2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&lt;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, +, ·,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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 E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&gt;,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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阶全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0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矩阵，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E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阶单位矩阵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1c1c1c"/>
                </a:solidFill>
                <a:latin typeface="Times New Roman"/>
              </a:rPr>
              <a:t>       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1c1c1c"/>
                </a:solidFill>
                <a:latin typeface="Times New Roman"/>
              </a:rPr>
              <a:t>3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&lt;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, ∪, ∩,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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&gt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95280" y="4005360"/>
          <a:ext cx="8269200" cy="2441520"/>
        </p:xfrm>
        <a:graphic>
          <a:graphicData uri="http://schemas.openxmlformats.org/drawingml/2006/table">
            <a:tbl>
              <a:tblPr/>
              <a:tblGrid>
                <a:gridCol w="2705040"/>
                <a:gridCol w="2705040"/>
                <a:gridCol w="28591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交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结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交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结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满足消去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满足消去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分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可分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没有吸收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交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结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交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结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满足消去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满足消去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分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可分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没有吸收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∪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交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结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∩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交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结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∪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满足消去律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∩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满足消去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∩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∪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分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∪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∩可分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∪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∩满足吸收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98F1-C577-4933-BD2C-9E39C2A703F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53B7CD2-1A5E-4756-A5E8-0914E8AB6420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6563-3B94-4B3E-A888-004F22BBCD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03280" y="152280"/>
            <a:ext cx="31687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子代数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24000" y="981000"/>
            <a:ext cx="84960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… ,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代数系统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非空子集 ，如果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都是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封闭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，且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含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相同的代数常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则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子代数系统，简称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子代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时将子代数系统简记为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实例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是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&lt;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,+&gt;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&lt;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,+,0&gt;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的子代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. 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{0}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是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&lt;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,+&gt;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的子代数，但不是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&lt;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,0&gt;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的子代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说明：代数和原代数是同类型的代数系统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于任何代数系统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其子代数一定存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79280" y="38876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最大的子代数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就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本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所有代数常数构成集合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且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所有运算封闭，则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就构成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最小的子代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最大和最小子代数称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平凡的子代数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真子集，则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构成的子代数称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真子代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9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6" dur="8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7" dur="8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8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4" dur="8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5" dur="8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0" dur="8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1" dur="8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2" dur="8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FBD2-B8A0-4003-87D9-CD32D46039F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547F516-4166-47E2-BC2C-F993EE65F7F2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B16E-1DD2-4D49-B2AD-E367852E89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59920"/>
            <a:ext cx="4012920" cy="53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子代数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539640" y="1341360"/>
            <a:ext cx="8064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9.8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&lt;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+,0&gt;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，令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Z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{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z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|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}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，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自然数，则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1)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Z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是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V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子代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2)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当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1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和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0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时，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Z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是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V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平凡的子代数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3)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其他的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都是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V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非平凡的真子代数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512E-C189-422B-BB3E-7B1AC036382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7B92E68-795F-411E-BF37-4DA9F0DDFDC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7FD7-D801-4BB3-AF22-A4830B043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151920"/>
            <a:ext cx="5958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9.1</a:t>
            </a: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二元运算及其性质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00"/>
                </a:solidFill>
                <a:latin typeface="Times New Roman"/>
              </a:rPr>
              <a:t>二元运算定义及其实例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00"/>
                </a:solidFill>
                <a:latin typeface="Times New Roman"/>
              </a:rPr>
              <a:t>一元运算定义及其实例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00"/>
                </a:solidFill>
                <a:latin typeface="Times New Roman"/>
              </a:rPr>
              <a:t>运算的表示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00"/>
                </a:solidFill>
                <a:latin typeface="Times New Roman"/>
              </a:rPr>
              <a:t>二元运算的性质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00"/>
                </a:solidFill>
                <a:latin typeface="Tahoma"/>
              </a:rPr>
              <a:t>交换律、结合律、幂等律、消去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480" indent="-2854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00"/>
                </a:solidFill>
                <a:latin typeface="Tahoma"/>
              </a:rPr>
              <a:t>分配律、吸收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00"/>
                </a:solidFill>
                <a:latin typeface="Times New Roman"/>
              </a:rPr>
              <a:t>二元运算的特异元素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单位元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480" indent="-2854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零元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480" indent="-2854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可逆元素及其逆元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F0E2-DCF0-4B6E-98F9-CABF91C01E0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674FF58-BCB0-45EC-BFCD-867E5EA3A76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4A7D-7AA8-42E7-AAEF-F814096946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二元运算的定义及其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981000"/>
            <a:ext cx="87138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函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二元运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简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二元运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封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验证一个运算是否为集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上的二元运算主要考虑两点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中任何两个元素都可以进行这种运算，且运算结果是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唯一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的；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中任何两个元素的运算结果都属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，即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对该运算是封闭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的。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79280" y="3284640"/>
            <a:ext cx="504216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9.1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1)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二元运算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2)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二元运算：  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3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非零实数集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二元运算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: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4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设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S =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{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, a</a:t>
            </a:r>
            <a:r>
              <a:rPr b="1" lang="en-US" sz="2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, …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},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 a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∘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j</a:t>
            </a:r>
            <a:r>
              <a:rPr b="1" lang="en-US" sz="2200" spc="-1" strike="noStrike" baseline="-25000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: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5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幂集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二元运算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6)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1" i="1" lang="en-US" sz="2200" spc="-1" strike="noStrike" baseline="30000">
                <a:solidFill>
                  <a:srgbClr val="1c1c1c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所有函数的集合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987640" y="3701880"/>
            <a:ext cx="5689800" cy="26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加法、乘法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加法、减法、乘法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 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 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乘法、除法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           ∘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二元运算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∪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∩,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－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合成运算∘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47EF-16AF-4E64-A3F9-FD1108722C6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740D18B-F273-46D0-9638-55FFEA380C40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23C5-8A93-4810-ACD7-4CF4C7DE5E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1640" y="151920"/>
            <a:ext cx="53816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二元运算的实例（续）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08000" y="981000"/>
            <a:ext cx="70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7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设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表示所有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阶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≥2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实矩阵的集合，即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611280" y="1341360"/>
                <a:ext cx="6840360" cy="24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⋯</m:t>
                                  </m:r>
                                </m:e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Rectangle 5"/>
          <p:cNvSpPr/>
          <p:nvPr/>
        </p:nvSpPr>
        <p:spPr>
          <a:xfrm>
            <a:off x="1191240" y="3938760"/>
            <a:ext cx="4029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矩阵加法和乘法都是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二元运算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79280" y="4346640"/>
            <a:ext cx="864072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9.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实数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二元运算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计算：３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(-5) *0.2 ,  0*1/2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*4=3, 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) *0.2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,  0*1/2=0 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F01F-A8DC-410C-B02F-837DF5F0F23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6D471C0-6A5A-4893-846D-87AB9723153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DD8F-191E-4257-ABF7-42523ACCBB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15560"/>
            <a:ext cx="6534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一元运算的定义与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0920" y="907920"/>
            <a:ext cx="8569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集合，函数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一元运算，简称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一元运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50920" y="1643040"/>
            <a:ext cx="720072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9.3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(1)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Z, Q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和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一元运算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: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非零有理数集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Q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，非零实数集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*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一元运算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:  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3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复数集合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C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一元运算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:  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4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幂集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全集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:   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5)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所有双射函数的集合，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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1" i="1" lang="en-US" sz="2200" spc="-1" strike="noStrike" baseline="30000">
                <a:solidFill>
                  <a:srgbClr val="1c1c1c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: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6)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在</a:t>
            </a:r>
            <a:r>
              <a:rPr b="1" i="1" lang="zh-CN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i="1" lang="en-US" sz="2200" spc="-1" strike="noStrike" baseline="-25000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 (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≥2 )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276720" y="1628640"/>
            <a:ext cx="49672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求相反数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                                      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求倒数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求共轭复数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求绝对补运算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~ 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              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求反函数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求转置矩阵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450972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算符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∗, · ,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符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表示二元或一元运算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二元运算 ∘，如果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运算得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记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∘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一元运算 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运算结果记作   ∘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表示二元或一元运算的方法：公式、 运算表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注意：在同一问题中不同的运算使用不同的算符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60360" y="3860640"/>
            <a:ext cx="3635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 Black"/>
              </a:rPr>
              <a:t>二元与一元运算的表示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408F-8DDB-4985-82D0-CF02A34E6BE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953DDED-2CE8-42A6-B549-D85A1FD4D68C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804A-2F93-4535-9121-601FD4F8F2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50920" y="981000"/>
            <a:ext cx="864216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黑体"/>
              </a:rPr>
              <a:t>公式表示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 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设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实数集合，如下定义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二元运算 ∗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               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∗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那么     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3 ∗ 4 = 4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0.5 ∗ (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3) = </a:t>
            </a: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黑体"/>
              </a:rPr>
              <a:t>运算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表示有穷集上的一元和二元运算）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36520" y="159840"/>
            <a:ext cx="735984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二元与一元运算的表示（续）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3573360"/>
          <a:ext cx="8269200" cy="2832120"/>
        </p:xfrm>
        <a:graphic>
          <a:graphicData uri="http://schemas.openxmlformats.org/drawingml/2006/table">
            <a:tbl>
              <a:tblPr/>
              <a:tblGrid>
                <a:gridCol w="946080"/>
                <a:gridCol w="3662280"/>
                <a:gridCol w="1870200"/>
                <a:gridCol w="83664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ˎ̥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ˎ̥"/>
                          <a:ea typeface="ˎ̥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5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5e3"/>
                    </a:solidFill>
                  </a:tcPr>
                </a:tc>
              </a:tr>
              <a:tr h="24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ˎ̥"/>
                          <a:ea typeface="ˎ̥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ˎ̥"/>
                          <a:ea typeface="Times New Roman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ˎ̥"/>
                          <a:ea typeface="Times New Roman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5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9700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9700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9700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9700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9700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9700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∘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5e3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4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D5E5-B89C-4B8C-A776-B9A3A0E6EAF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72E27FA-4149-4598-AEB1-98323554A9C2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页脚占位符 5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灯片编号占位符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1F76-B7CE-49E7-BC48-5ADD7812BC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358128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运算表的实例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11320" y="1628640"/>
          <a:ext cx="4181400" cy="2075040"/>
        </p:xfrm>
        <a:graphic>
          <a:graphicData uri="http://schemas.openxmlformats.org/drawingml/2006/table">
            <a:tbl>
              <a:tblPr/>
              <a:tblGrid>
                <a:gridCol w="1012680"/>
                <a:gridCol w="316872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{1}     {1}     {1,1}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{1}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{2}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{1,2}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1140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宋体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1140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3"/>
          <p:cNvSpPr/>
          <p:nvPr/>
        </p:nvSpPr>
        <p:spPr>
          <a:xfrm>
            <a:off x="179280" y="990720"/>
            <a:ext cx="856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9.4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S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{1, 2}), 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∼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分别为对称差和绝对补运算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}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全集）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503280" y="1773360"/>
            <a:ext cx="46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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的运算表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6012000" y="1628640"/>
            <a:ext cx="3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∼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的运算表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259200" y="1419120"/>
            <a:ext cx="655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解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179280" y="3789360"/>
            <a:ext cx="8425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9.5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 Z</a:t>
            </a:r>
            <a:r>
              <a:rPr b="1" lang="en-US" sz="2200" spc="-1" strike="noStrike" baseline="-25000">
                <a:solidFill>
                  <a:srgbClr val="1c1c1c"/>
                </a:solidFill>
                <a:latin typeface="Times New Roman"/>
              </a:rPr>
              <a:t>5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 { 0, 1, 2, 3, 4 }, 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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分别为模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5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加法与乘法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4371840"/>
          <a:ext cx="3311640" cy="2011320"/>
        </p:xfrm>
        <a:graphic>
          <a:graphicData uri="http://schemas.openxmlformats.org/drawingml/2006/table">
            <a:tbl>
              <a:tblPr/>
              <a:tblGrid>
                <a:gridCol w="717480"/>
                <a:gridCol w="259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    1    2    3    4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64"/>
          <p:cNvSpPr/>
          <p:nvPr/>
        </p:nvSpPr>
        <p:spPr>
          <a:xfrm>
            <a:off x="235440" y="4149720"/>
            <a:ext cx="655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解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932360" y="4371840"/>
          <a:ext cx="3430440" cy="2011320"/>
        </p:xfrm>
        <a:graphic>
          <a:graphicData uri="http://schemas.openxmlformats.org/drawingml/2006/table">
            <a:tbl>
              <a:tblPr/>
              <a:tblGrid>
                <a:gridCol w="863640"/>
                <a:gridCol w="256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Symbol"/>
                          <a:ea typeface="Symbol"/>
                        </a:rPr>
                        <a:t>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    1    2    3   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e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96000" y="1641600"/>
          <a:ext cx="2879640" cy="2074680"/>
        </p:xfrm>
        <a:graphic>
          <a:graphicData uri="http://schemas.openxmlformats.org/drawingml/2006/table">
            <a:tbl>
              <a:tblPr/>
              <a:tblGrid>
                <a:gridCol w="676080"/>
                <a:gridCol w="1084320"/>
                <a:gridCol w="1119240"/>
              </a:tblGrid>
              <a:tr h="48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5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Lucida Sans Unicode"/>
                          <a:ea typeface="Lucida Sans Unicode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Lucida Sans Unicode"/>
                        </a:rPr>
                        <a:t>∼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Lucida Sans Unicode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5e3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{1}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{2}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{1,2}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5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5e3"/>
                    </a:solidFill>
                  </a:tcPr>
                </a:tc>
              </a:tr>
            </a:tbl>
          </a:graphicData>
        </a:graphic>
      </p:graphicFrame>
      <p:sp>
        <p:nvSpPr>
          <p:cNvPr id="162" name="Rectangle 126"/>
          <p:cNvSpPr/>
          <p:nvPr/>
        </p:nvSpPr>
        <p:spPr>
          <a:xfrm>
            <a:off x="2195640" y="21337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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{a}     {1}      {1,1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7"/>
          <p:cNvSpPr/>
          <p:nvPr/>
        </p:nvSpPr>
        <p:spPr>
          <a:xfrm>
            <a:off x="2195640" y="2492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{1}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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{1.2}   {2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28"/>
          <p:cNvSpPr/>
          <p:nvPr/>
        </p:nvSpPr>
        <p:spPr>
          <a:xfrm>
            <a:off x="2193120" y="282744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{2}    {1,2}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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{1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29"/>
          <p:cNvSpPr/>
          <p:nvPr/>
        </p:nvSpPr>
        <p:spPr>
          <a:xfrm>
            <a:off x="2048040" y="3213000"/>
            <a:ext cx="25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{1,2}   {2}     {1}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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130"/>
          <p:cNvSpPr/>
          <p:nvPr/>
        </p:nvSpPr>
        <p:spPr>
          <a:xfrm>
            <a:off x="7758000" y="21686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{1,2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32"/>
          <p:cNvSpPr/>
          <p:nvPr/>
        </p:nvSpPr>
        <p:spPr>
          <a:xfrm>
            <a:off x="7812720" y="29606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{1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33"/>
          <p:cNvSpPr/>
          <p:nvPr/>
        </p:nvSpPr>
        <p:spPr>
          <a:xfrm>
            <a:off x="7812720" y="26002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{2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134"/>
          <p:cNvSpPr/>
          <p:nvPr/>
        </p:nvSpPr>
        <p:spPr>
          <a:xfrm>
            <a:off x="7890120" y="331956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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135"/>
          <p:cNvSpPr/>
          <p:nvPr/>
        </p:nvSpPr>
        <p:spPr>
          <a:xfrm>
            <a:off x="1804680" y="4724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0    1    2    3    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36"/>
          <p:cNvSpPr/>
          <p:nvPr/>
        </p:nvSpPr>
        <p:spPr>
          <a:xfrm>
            <a:off x="1868400" y="504828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1    2    3    4    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37"/>
          <p:cNvSpPr/>
          <p:nvPr/>
        </p:nvSpPr>
        <p:spPr>
          <a:xfrm>
            <a:off x="1804680" y="53737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2    3    4    0    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38"/>
          <p:cNvSpPr/>
          <p:nvPr/>
        </p:nvSpPr>
        <p:spPr>
          <a:xfrm>
            <a:off x="1868400" y="566100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3    4    0    1    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39"/>
          <p:cNvSpPr/>
          <p:nvPr/>
        </p:nvSpPr>
        <p:spPr>
          <a:xfrm>
            <a:off x="1812240" y="5985000"/>
            <a:ext cx="19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4    0    1    2    3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140"/>
          <p:cNvSpPr/>
          <p:nvPr/>
        </p:nvSpPr>
        <p:spPr>
          <a:xfrm>
            <a:off x="6045120" y="472428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0    0    0    0    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141"/>
          <p:cNvSpPr/>
          <p:nvPr/>
        </p:nvSpPr>
        <p:spPr>
          <a:xfrm>
            <a:off x="6045120" y="504828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0    1    2    3    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142"/>
          <p:cNvSpPr/>
          <p:nvPr/>
        </p:nvSpPr>
        <p:spPr>
          <a:xfrm>
            <a:off x="6045120" y="537372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0    2    4    1    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43"/>
          <p:cNvSpPr/>
          <p:nvPr/>
        </p:nvSpPr>
        <p:spPr>
          <a:xfrm>
            <a:off x="6045120" y="566100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0    3    1    4    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144"/>
          <p:cNvSpPr/>
          <p:nvPr/>
        </p:nvSpPr>
        <p:spPr>
          <a:xfrm>
            <a:off x="6045120" y="598500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0    4    3    2    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5094-8E08-458B-A70D-226D260098F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A68979C-6A19-476E-B1A3-2C6BD3594B5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DCA9-59BC-420C-A5C0-0443F56978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二元运算的性质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0920" y="907920"/>
            <a:ext cx="87138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9.3~5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二元运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运算在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满足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交换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运算在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满足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结合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称运算在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满足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幂等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116000" y="2981160"/>
          <a:ext cx="7777080" cy="3472200"/>
        </p:xfrm>
        <a:graphic>
          <a:graphicData uri="http://schemas.openxmlformats.org/drawingml/2006/table">
            <a:tbl>
              <a:tblPr/>
              <a:tblGrid>
                <a:gridCol w="1284480"/>
                <a:gridCol w="1858680"/>
                <a:gridCol w="1738440"/>
                <a:gridCol w="1488960"/>
                <a:gridCol w="14065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集合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交换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幂等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5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, Q, 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3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加法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乘法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</a:tr>
              <a:tr h="34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(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3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矩阵加法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矩阵乘法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</a:tr>
              <a:tr h="346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3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交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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对补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</a:tr>
              <a:tr h="3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称差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|</a:t>
                      </a: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|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3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函数符合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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1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ca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85"/>
          <p:cNvSpPr/>
          <p:nvPr/>
        </p:nvSpPr>
        <p:spPr>
          <a:xfrm>
            <a:off x="324000" y="3141720"/>
            <a:ext cx="7189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实例分析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86"/>
          <p:cNvSpPr/>
          <p:nvPr/>
        </p:nvSpPr>
        <p:spPr>
          <a:xfrm>
            <a:off x="8025120" y="474804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88"/>
          <p:cNvSpPr/>
          <p:nvPr/>
        </p:nvSpPr>
        <p:spPr>
          <a:xfrm>
            <a:off x="4957920" y="33577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89"/>
          <p:cNvSpPr/>
          <p:nvPr/>
        </p:nvSpPr>
        <p:spPr>
          <a:xfrm>
            <a:off x="4957920" y="3645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90"/>
          <p:cNvSpPr/>
          <p:nvPr/>
        </p:nvSpPr>
        <p:spPr>
          <a:xfrm>
            <a:off x="4957920" y="4005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91"/>
          <p:cNvSpPr/>
          <p:nvPr/>
        </p:nvSpPr>
        <p:spPr>
          <a:xfrm>
            <a:off x="4957920" y="4724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92"/>
          <p:cNvSpPr/>
          <p:nvPr/>
        </p:nvSpPr>
        <p:spPr>
          <a:xfrm>
            <a:off x="4957920" y="5079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93"/>
          <p:cNvSpPr/>
          <p:nvPr/>
        </p:nvSpPr>
        <p:spPr>
          <a:xfrm>
            <a:off x="4957920" y="5734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94"/>
          <p:cNvSpPr/>
          <p:nvPr/>
        </p:nvSpPr>
        <p:spPr>
          <a:xfrm>
            <a:off x="6542280" y="609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95"/>
          <p:cNvSpPr/>
          <p:nvPr/>
        </p:nvSpPr>
        <p:spPr>
          <a:xfrm>
            <a:off x="6542280" y="5734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96"/>
          <p:cNvSpPr/>
          <p:nvPr/>
        </p:nvSpPr>
        <p:spPr>
          <a:xfrm>
            <a:off x="6542280" y="508464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97"/>
          <p:cNvSpPr/>
          <p:nvPr/>
        </p:nvSpPr>
        <p:spPr>
          <a:xfrm>
            <a:off x="6542280" y="4724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98"/>
          <p:cNvSpPr/>
          <p:nvPr/>
        </p:nvSpPr>
        <p:spPr>
          <a:xfrm>
            <a:off x="6542280" y="43657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99"/>
          <p:cNvSpPr/>
          <p:nvPr/>
        </p:nvSpPr>
        <p:spPr>
          <a:xfrm>
            <a:off x="6542280" y="4005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6542280" y="3645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01"/>
          <p:cNvSpPr/>
          <p:nvPr/>
        </p:nvSpPr>
        <p:spPr>
          <a:xfrm>
            <a:off x="6542280" y="33577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102"/>
          <p:cNvSpPr/>
          <p:nvPr/>
        </p:nvSpPr>
        <p:spPr>
          <a:xfrm>
            <a:off x="8053560" y="33577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03"/>
          <p:cNvSpPr/>
          <p:nvPr/>
        </p:nvSpPr>
        <p:spPr>
          <a:xfrm>
            <a:off x="8025120" y="36687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4"/>
          <p:cNvSpPr/>
          <p:nvPr/>
        </p:nvSpPr>
        <p:spPr>
          <a:xfrm>
            <a:off x="7982280" y="4005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05"/>
          <p:cNvSpPr/>
          <p:nvPr/>
        </p:nvSpPr>
        <p:spPr>
          <a:xfrm>
            <a:off x="7982280" y="43657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06"/>
          <p:cNvSpPr/>
          <p:nvPr/>
        </p:nvSpPr>
        <p:spPr>
          <a:xfrm>
            <a:off x="7982280" y="5445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107"/>
          <p:cNvSpPr/>
          <p:nvPr/>
        </p:nvSpPr>
        <p:spPr>
          <a:xfrm>
            <a:off x="7982280" y="5734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08"/>
          <p:cNvSpPr/>
          <p:nvPr/>
        </p:nvSpPr>
        <p:spPr>
          <a:xfrm>
            <a:off x="7982280" y="609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09"/>
          <p:cNvSpPr/>
          <p:nvPr/>
        </p:nvSpPr>
        <p:spPr>
          <a:xfrm>
            <a:off x="4957920" y="609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0"/>
          <p:cNvSpPr/>
          <p:nvPr/>
        </p:nvSpPr>
        <p:spPr>
          <a:xfrm>
            <a:off x="4957920" y="53737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11"/>
          <p:cNvSpPr/>
          <p:nvPr/>
        </p:nvSpPr>
        <p:spPr>
          <a:xfrm>
            <a:off x="4957920" y="43657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112"/>
          <p:cNvSpPr/>
          <p:nvPr/>
        </p:nvSpPr>
        <p:spPr>
          <a:xfrm>
            <a:off x="6542280" y="53737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114"/>
          <p:cNvSpPr/>
          <p:nvPr/>
        </p:nvSpPr>
        <p:spPr>
          <a:xfrm>
            <a:off x="7982280" y="5108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User</cp:lastModifiedBy>
  <dcterms:modified xsi:type="dcterms:W3CDTF">2012-02-26T03:32:14Z</dcterms:modified>
  <cp:revision>264</cp:revision>
  <dc:subject/>
  <dc:title>ch8-math dis</dc:title>
</cp:coreProperties>
</file>